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E2EB-65E2-4C55-855E-78F3F7389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61C5-9E92-4E10-BDA3-67E255FE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2C47-DF6B-49CC-A9C7-BDB97686B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01D8-621E-4154-B4CD-AB9779A8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4492-BDC1-4DA7-80B5-2D0DA576D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4F58-0F79-460E-A772-EC0C9C78F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0F77-2927-4973-8CB1-CB4321E6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8BB0-DC9B-489B-8943-7AC7EF174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43B71-E292-441E-B1F5-76AA239FC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0B159-7FB9-4B34-94BB-52B7EFA38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BFCCE-6DEB-4317-8EEC-5722A138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7D8B-488C-42A1-AAE9-74E47E1FA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17917-D08C-47E2-ADA8-AC60DD2681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66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539640" y="549360"/>
            <a:ext cx="7777440" cy="58323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3300"/>
                </a:solidFill>
                <a:latin typeface="comic"/>
              </a:rPr>
              <a:t>MY FAVOURITE MUSI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KITARO. MÚSICA INFINITA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66"/>
            </a:gs>
            <a:gs pos="100000">
              <a:srgbClr val="ff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THE SMITHS. INGLATERRA SUC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KEANE. EL NUEVO P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57240">
            <a:solidFill>
              <a:srgbClr val="3366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USICA AMBIENTE. BRIAN EN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57240">
            <a:solidFill>
              <a:srgbClr val="00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NEW AGE. MICHAEL NYM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4T08:22:37Z</dcterms:created>
  <dc:creator>WinuE</dc:creator>
  <dc:description/>
  <dc:language>en-US</dc:language>
  <cp:lastModifiedBy>WinuE</cp:lastModifiedBy>
  <dcterms:modified xsi:type="dcterms:W3CDTF">2011-02-14T08:43:11Z</dcterms:modified>
  <cp:revision>2</cp:revision>
  <dc:subject/>
  <dc:title>MY FAVOURITE MUSIC</dc:title>
</cp:coreProperties>
</file>